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8C9-CAE5-4562-AAB6-C98C684A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241-AFF6-4124-B2B2-3F242293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44E-0C6D-4468-9671-C74BF903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969-1E87-4A5B-86BB-E788F7F7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BAE8-F140-45E4-A68B-A60B02CD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5BCD-9AA7-4555-BE65-63294851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57A9-2FFE-41A3-95B4-EFB130AB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FAB1-651F-47E0-93E8-2D15FB55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4FAD-3D9B-4B88-86A0-D8D2E779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CDBF-BAFE-48F5-BC4F-1F95E661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2CBC-7753-4590-9220-D3AA236D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AAC-9D25-49A9-99B9-2E1F133E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151A-6D28-494B-A04E-2F167B2E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2843-7B4D-474E-BFC3-67F9E477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05E1-84B9-466B-94EB-81BE1506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AA55-246A-4082-9FB2-26A7594F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AB2E-7462-4EBF-8B1B-073A95B2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493-8385-472E-8263-9CFADEAE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252-55A0-48BD-A7B3-B301F729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4579-5BDB-48D4-B3E5-CB18DF7D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F7A8-5334-4AF2-8D8D-0AF0EF9F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5668-1D74-4602-A88F-44EA1AA0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AE9-0AC3-40C8-A5DC-C2B4D0B0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161-FB26-4085-8AE6-57D740DA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BBEE-CC4D-4714-9710-2996F0464DE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D9F7-09CF-4CCB-8D83-E981B3AED58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terature moved from individual difficulties to mass struggl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Grapes of Wrath (1939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hotographers also made their mark through unfiltered looks at those deeply effected by the Depress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819600" cy="4953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tretch/>
        </p:blipFill>
        <p:spPr>
          <a:xfrm>
            <a:off x="4068720" y="457200"/>
            <a:ext cx="4694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838080" y="11430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4"/>
          <a:stretch/>
        </p:blipFill>
        <p:spPr>
          <a:xfrm>
            <a:off x="5334120" y="1155600"/>
            <a:ext cx="3047760" cy="5562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5"/>
          <a:stretch/>
        </p:blipFill>
        <p:spPr>
          <a:xfrm>
            <a:off x="685800" y="3429000"/>
            <a:ext cx="32004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rs as status symb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ny couldn’t afford to drive but still owned the ca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ghways and roads made it possible for people to drive to find work or advent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4648320" cy="3479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80010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volutionary appliances not only were continued to be made, but became more and more popular items to buy when possibl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frigerator sales continued to climb throughout the Depress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shing machines and electric irons also were bi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999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vies with sound came alo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stly musicals, but at least one epic film that people around the world still talk about.  What was i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81720" cy="3495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4"/>
          <a:stretch/>
        </p:blipFill>
        <p:spPr>
          <a:xfrm>
            <a:off x="4800600" y="1523880"/>
            <a:ext cx="4191120" cy="49723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304920" y="144792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939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tory of a love lost and found in the South during the Civil Wa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0 million + radio sets were owned by 1929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 1939… 30 million+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aytime radio= Soap Operas, panel discussions, and quiz show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fternoon= Kids shows, includ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The Lone Ranger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Superma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ight= News, Comedy shows, and Dramatic Present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0" y="533520"/>
            <a:ext cx="5318280" cy="5029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5410080" y="762120"/>
            <a:ext cx="3621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4:13:25Z</dcterms:created>
  <dc:creator>Eric Rossi</dc:creator>
  <dc:description/>
  <dc:language>en-US</dc:language>
  <cp:lastModifiedBy>ASD</cp:lastModifiedBy>
  <dcterms:modified xsi:type="dcterms:W3CDTF">2010-06-23T21:08:15Z</dcterms:modified>
  <cp:revision>5</cp:revision>
  <dc:subject/>
  <dc:title>Slide 1</dc:title>
</cp:coreProperties>
</file>